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4C79-85CF-483E-B130-6F3CDC7A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8690-0390-43CD-B474-B830CD1D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3E90-3E08-4321-863A-8F01DFF7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EC57-0290-4DE9-978D-E6F3FD5B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3797-2CEA-43DB-9D8D-12CCAC72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A8F5-3E3B-4317-90CF-ED6AD7C7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DA71-7D57-44DA-86D1-71053276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FFB5-2DE5-428F-B5F8-41627768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1689-6E39-4D32-B094-19C43ACD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4AA5-75B3-48BF-89E4-FE2C1A4F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9243-3877-4ED8-BA61-4BB3A284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2EEF-B9F2-4388-8DA4-63EEF505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1E9E-A81E-428A-B2F6-4BC6E428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E1C3-A57F-4242-A3CD-4DD17207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49F0-FCD4-476D-8BB2-55531973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FBC7-9731-4753-871F-D8B78A3A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B59A-EE89-4D16-9923-ED2D8ACC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574-5E06-4145-B667-8191EAEA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B194-AF6A-4B79-839A-62296BA8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2FB-AAAD-42A0-A496-069AD4BA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BDB5-0360-4869-90DA-55604104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A4D3-0BA5-40C3-AA13-886A62C6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65A4-B688-4C98-82C2-746DE92F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6FEA-9C59-4C2D-A1F3-A8E00B46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5F18-C324-4A2C-A0FC-46019B8E4D3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6487-08D5-4F06-ABD7-C7CD85F44D3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第十三章  货币一体化理论与欧洲货币一体化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Theories of Currency Are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 European Monetary Integr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一节  最适货币区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、蒙代尔与最适货币区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适货币区的两种类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单一货币的货币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多种货币并存并通过固定汇率机制连接的货币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两种货币区的调节机制比较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单一货币区内外均衡调节机制较优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适货币区的条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区内要素自由流动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对外实行浮动汇率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政治变革、主权让渡与政治同盟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传统分析法（最适货币区条件论）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最适货币区条件主要有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生产要素的流动性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开放程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产品多样性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一体化程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相近的通货膨胀率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政策一体化程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成本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—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收益分析法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国加入货币区，有成本，也有收益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收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消除投机资本区内流动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节约外汇储备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推动经济政策一体化和经济一体化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政治收益：提高国际协议地位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成本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丧失货币政策自主性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财政政策自主性受到限制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增大失业增加的可能性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打破原有的国内均衡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二节  共同货币政策问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共同货币单位与货币篮子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二、共同货币政策条件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三、单一货币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收益分析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收益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29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成本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29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三节  欧洲货币一体化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欧洲货币体系的形成与发展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体系的形成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体系的主要内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欧洲货币单位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联合浮动的汇率机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欧洲货币合作基金和信贷机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体系成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汇率最稳定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加强成员国在国际金融体系中地位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共同发展与政策协调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为单一货币奠定基础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欧洲货币联盟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欧洲货币联盟的产生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二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马斯特里赫特条约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与单一货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三、欧洲单一货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欧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01:12:03Z</dcterms:created>
  <dc:creator>MS User</dc:creator>
  <dc:description/>
  <dc:language>en-US</dc:language>
  <cp:lastModifiedBy>Dell</cp:lastModifiedBy>
  <dcterms:modified xsi:type="dcterms:W3CDTF">2021-08-23T22:50:40Z</dcterms:modified>
  <cp:revision>13</cp:revision>
  <dc:subject/>
  <dc:title>第八章  货币一体化理论与欧洲货币一体化</dc:title>
</cp:coreProperties>
</file>